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0482-5DA6-46E5-8C2E-CAC5EA04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8A2E-B70B-411E-B6D2-DD09E697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B6B1-7CD2-446B-980C-9B683136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5B99-DCE1-44A0-BF0D-8A07AF51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9D2F-16C2-4584-AD4C-571AA7C7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5277-9388-4AE1-A534-30533837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17AE-FCC5-4A10-912D-81602D7D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1D04-5E53-4005-ABC6-207A3B1C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B9DC-7426-4164-944E-9439F1E5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7B3A-3308-40E8-9334-D3B33FE0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E40A-5754-41F3-82B7-BC7065C4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F2ED-B94E-4672-8B9B-374909A2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DAF60-92DC-426D-8531-0326CEACD9F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tertainment.howstuffworks.com/water-blaster1.htm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Verdana"/>
              </a:rPr>
              <a:t>Rheolog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Capital Univers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Verdana"/>
              </a:rPr>
              <a:t>Everything Flow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The Greek letters on the hourglass logo of The Society of Rheology— panta rei (sometimes pronounced “ panta rei”)—may be translated “everything flows.” This phrase (or philosophy) is attributed to the Greek philosopher Heraclitus of Ephesus (536–470 BCE) and is taken from the more complete quote: “Everything flows and nothing abides; everything gives way and nothing stays fixed.” The Society motto was suggested by Eugene Cook Bingham and it reflects the field of study of rheology — deformation and flow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6969240"/>
            <a:ext cx="5943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rom http://www.aip.org/tip/INPHFA/vol-10/iss-2/p2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Verdana"/>
              </a:rPr>
              <a:t>Vocabulary for Toda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Rheolo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Viscos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Non-Newtonian Flu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Polym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Verdana"/>
              </a:rPr>
              <a:t>Viscosit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http://en.wikipedia.org/wiki/File:Viscosity.gi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Verdana"/>
              </a:rPr>
              <a:t>Viscosity and Water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8869320" cy="16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entertainment.howstuffworks.com/water-blaster1.ht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Water's viscosity can be represented by a coefficient that does not var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743200" y="3657600"/>
            <a:ext cx="4684680" cy="33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Verdana"/>
              </a:rPr>
              <a:t>Non-Newtonian Fluid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http://www.youtube.com/watch?v=f2XQ97XHjV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Verdana"/>
              </a:rPr>
              <a:t>Another Non-Newtonian Fluid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http://web.mit.edu/nnf/research/phenomena/slug.ht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Verdana"/>
              </a:rPr>
              <a:t>Polymer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3280" y="1814400"/>
            <a:ext cx="5440320" cy="50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A chain of molecules with a repeating pattern. Such as DNA (and other common everyday life thing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0" t="-7344" r="0" b="0"/>
          <a:stretch/>
        </p:blipFill>
        <p:spPr>
          <a:xfrm>
            <a:off x="6400800" y="441360"/>
            <a:ext cx="3429000" cy="6873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6969240"/>
            <a:ext cx="3833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tterns—kinesthetic then spagh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3840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Verdana"/>
              </a:rPr>
              <a:t>At last:  Gak!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2920" y="1814400"/>
            <a:ext cx="3840120" cy="45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Borax causes the glue molecules to organize in chains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228600"/>
            <a:ext cx="5334120" cy="7112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7:20:40Z</dcterms:created>
  <dc:creator/>
  <dc:description>Creative Commons License
Some rights reserved. This work is licensed under a
Creative Commons Attribution 3.0 License.
Based on Dianita89's wallpaper Citrus E available here:
http://dianita89.deviantart.com/art/Citrus-E-62956586</dc:description>
  <dc:language>en-US</dc:language>
  <cp:lastModifiedBy/>
  <dcterms:modified xsi:type="dcterms:W3CDTF">2010-02-01T17:24:44Z</dcterms:modified>
  <cp:revision>2</cp:revision>
  <dc:subject/>
  <dc:title>Citrus E</dc:title>
</cp:coreProperties>
</file>